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F3F-FC7A-4246-BDA3-B4119623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8BD-B7DA-422E-A2EC-31CD499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D6A-6426-45E9-8700-28BCED74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01F-B991-4EED-BBB7-BCD56B07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7AE-EA18-497E-83B8-B7B04E77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708-486F-48E6-B9EF-4151A778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48E-AB60-4FF2-8440-53394398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311-42B4-4521-B617-4C59D843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081-FBBA-49E5-BC12-9CF07D40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D9A-9131-4477-BDAC-7AB78B5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E43-00D3-474B-BF1A-5244C73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9B7-4077-43C4-A9BA-966D4CA0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DDCF-C12B-4D4E-84C1-A63183D015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C5AC-A98B-40E7-B6D2-BF15002FB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4991040" y="3375000"/>
            <a:ext cx="2571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ological Awarenes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Blevins, Rosner and Words their Wa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808600" y="35244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phabetic Princi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Core Phonics, Words their Wa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LETRS Morphological Awaren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3124080" y="228600"/>
            <a:ext cx="288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ocabulary and Compreh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DRA/SRI, Core Vocabulary  and Critchlaw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2019240" y="34131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ency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ORF, Fry and R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5791320" y="5000760"/>
            <a:ext cx="29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ity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Blen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Seg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ic Manipul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5234040" y="1436760"/>
            <a:ext cx="4076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bet Ski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and Deco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Skil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6491160" y="101124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ph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5"/>
          <p:cNvSpPr/>
          <p:nvPr/>
        </p:nvSpPr>
        <p:spPr>
          <a:xfrm>
            <a:off x="4815000" y="29718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Orthographic errors on spell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619440" y="53229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2235240" y="40687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F R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2525760" y="439596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F Accura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5348160" y="38862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honeme errors on spelling t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4"/>
          <p:cNvSpPr/>
          <p:nvPr/>
        </p:nvSpPr>
        <p:spPr>
          <a:xfrm>
            <a:off x="3200400" y="486576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naming R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9"/>
          <p:cNvSpPr/>
          <p:nvPr/>
        </p:nvSpPr>
        <p:spPr>
          <a:xfrm>
            <a:off x="3809880" y="10810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Lev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0"/>
          <p:cNvSpPr/>
          <p:nvPr/>
        </p:nvSpPr>
        <p:spPr>
          <a:xfrm>
            <a:off x="3201840" y="1776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Language Vocabul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1"/>
          <p:cNvSpPr/>
          <p:nvPr/>
        </p:nvSpPr>
        <p:spPr>
          <a:xfrm>
            <a:off x="5624640" y="458784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ner Auditory Analysi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5"/>
          <p:cNvSpPr/>
          <p:nvPr/>
        </p:nvSpPr>
        <p:spPr>
          <a:xfrm>
            <a:off x="2514600" y="2681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Vocabulary (SRI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ading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32:23Z</dcterms:created>
  <dc:creator>Robert Frantum-Allen</dc:creator>
  <dc:description/>
  <dc:language>en-US</dc:language>
  <cp:lastModifiedBy>Jamie Spears</cp:lastModifiedBy>
  <cp:lastPrinted>2012-04-08T17:21:35Z</cp:lastPrinted>
  <dcterms:modified xsi:type="dcterms:W3CDTF">2012-04-08T17:23:40Z</dcterms:modified>
  <cp:revision>37</cp:revision>
  <dc:subject/>
  <dc:title>Slide 1</dc:title>
</cp:coreProperties>
</file>